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25B0F-6903-4F28-91E9-6F6D29455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8A2C8-986D-4D58-B92A-68E23865B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7040-7D1E-4740-B2B5-A2570400D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7725-FB31-4966-8D84-2B3BB7D04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0714-5859-4624-9D97-7BFD85ED5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7A0F-AE51-4B40-97FF-82F1AF110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100C-9F3A-45F7-B74F-2D2216DDB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A2C2-04BD-4584-87C2-D2C05806B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4AF7-26ED-4CE4-8AA9-8A4CE7E27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46BC-686B-4932-B70E-FBFE68C79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D790-A766-4832-838E-A078A3CBB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7B2A-E9A8-4C84-87A4-2853BCD3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72D6-2999-4C5C-A025-4D98F398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7215-F94A-4F9D-B8A3-34334C99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5FC14-0703-4463-8D24-2F64FE6D2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8.05 Federal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s most common in small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Places nearly all power with a centr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Was rejected by the writers of the Unit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s Con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Has become more common in recent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Is practiced in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8.05 Federal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s most common in small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Places nearly all political power with a centr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Was rejected by the writers of the Unit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s Con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Has become more common in recent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Is practiced in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8.06 In the United States, congressional district boundaries are usually drawn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on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n independent non-partisan com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he Federal Election Com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tate legislat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The United States Supreme Cou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8.06 In the United States, congressional district boundaries are usually drawn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on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n independent non-partisan com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he Federal Election Com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State legislatu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The United States Supreme Cou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8.07 The United 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urrently has nearly 300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Was founded in 193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Has so far been less effective than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gue of 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Has had substantial success with peace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ing 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Places nearly all power in the hands of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.N. Secretary Gen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8.07 The United 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urrently has nearly 300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Was founded in 193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Has so far been less effective than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gue of 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Has had substantial success with peace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keeping 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Places nearly all power in the hands of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.N. Secretary Gen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8.08 At the end of the Cold War, several new countries emerged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Easter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Wester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Norther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North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Latin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8.08 At the end of the Cold War, several new countries emerged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Easter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Wester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Norther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North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Latin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8.09 This group predominates in the far north of Iraq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hi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unn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urk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Ku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Persia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8.09 This group predominates in the far north of Iraq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hi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unn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urk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Ku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Persia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8.01 Which country controlled the most colonial territory in 1914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Ja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Ger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Fr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United King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08_15"/>
          <p:cNvPicPr/>
          <p:nvPr/>
        </p:nvPicPr>
        <p:blipFill>
          <a:blip r:embed="rId1"/>
          <a:stretch/>
        </p:blipFill>
        <p:spPr>
          <a:xfrm>
            <a:off x="0" y="345960"/>
            <a:ext cx="9144000" cy="51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8.10 United States’ hostility toward Iran began wi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he 1953 overthrow of a democraticall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ed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he 1979 Islamic rev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he 1980-1988 war with Ira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ran’s refusal to support the America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asion of Iraq in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Iran’s desire to develop nuclear energy in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y twenty-first cent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8.10 United States’ hostility toward Iran began wi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he 1953 overthrow of a democraticall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ed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The 1979 Islamic rev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he 1980-1988 war with Ira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ran’s refusal to support the America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asion of Iraq in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Iran’s desire to develop nuclear energy in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y twenty-first cent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8.01 Which country controlled the most colonial territory in 1914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Ja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Ger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Fr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. United King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8.02 From a shape perspective, Chile can best be described as a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Prorupted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ompact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Elongated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Fragmented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Centralized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8.02 From a shape perspective, Chile can best be described as a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Prorupted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ompact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Elongated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Fragmented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Centralized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8.03 The largest number of landlocked states are found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he Middle 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outh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fr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8.03 The largest number of landlocked states are found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he Middle 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outh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. Afric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8.04 Libya and Egypt are separated by 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Desert bound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River bound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Mountain bound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Religious bound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Language bounda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8.04 Libya and Egypt are separated by 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Desert bound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River bound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Mountain bound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Religious bound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Language bounda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3T21:30:07Z</dcterms:created>
  <dc:creator>Michael Pretes</dc:creator>
  <dc:description/>
  <dc:language>en-US</dc:language>
  <cp:lastModifiedBy>uhartma</cp:lastModifiedBy>
  <dcterms:modified xsi:type="dcterms:W3CDTF">2012-05-10T22:00:36Z</dcterms:modified>
  <cp:revision>88</cp:revision>
  <dc:subject/>
  <dc:title>CRS Chapter 4</dc:title>
</cp:coreProperties>
</file>